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EEE-EE3E-4347-BD85-6BEB8AB7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022-ACB7-49CF-AF52-C10D2B9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424-126B-4FBD-910B-33111E95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327-4D62-4027-BD3D-C0BF7823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F3B-3B2E-4EF9-85D4-1B3FE34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87E-A144-4A56-A7C1-FEEC13BA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3C4-9CFA-49AC-B52F-DF605CBC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C5F-07E0-4178-9EDB-D7F335D3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F1C-DB81-4689-B872-AFBE9C1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6CA-BDB2-4F1B-A924-10C92A9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795-CDC0-4F94-BACF-665311B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BBF-A207-455F-BD97-1EF4D1F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781F-0E91-46CB-9295-7B6386A9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25636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59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olas"/>
              </a:rPr>
              <a:t>&amp;% COMPUTERS @#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8100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hey’re a lot easier then you might ex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13360"/>
            <a:ext cx="914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ne on one computer and internet tr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branch staff for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2017800" cy="50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093080" y="6237360"/>
            <a:ext cx="1871640" cy="425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73760" y="6237360"/>
            <a:ext cx="46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through the CAP Fund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7:00:35Z</dcterms:created>
  <dc:creator>Amanda Mills</dc:creator>
  <dc:description/>
  <dc:language>en-US</dc:language>
  <cp:lastModifiedBy>Amanda Mills</cp:lastModifiedBy>
  <dcterms:modified xsi:type="dcterms:W3CDTF">2009-01-15T18:12:54Z</dcterms:modified>
  <cp:revision>4</cp:revision>
  <dc:subject/>
  <dc:title>Slide 1</dc:title>
</cp:coreProperties>
</file>